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5DD-0833-4B55-8824-B4A056D6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669-9451-44D9-A692-093C23F8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21F-F414-4AB0-84E4-27E6AE32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966-4143-47AF-AD7A-CAE6FDD7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418-A985-4F44-860A-EB0223B1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5D6-8DE0-486A-AB99-B61915FE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A59-2A76-4AC4-895D-D4E7AC10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F9D-FCDF-452D-84DD-7759BE9A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E8A-7187-4B77-B6F6-F71A3AB5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E88-C202-4522-8C46-7ADA52F0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278A-5F84-4AA3-BD0A-DF297DF6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FDC-5DB9-4FE8-B3DA-8187A349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CA5D-2BBD-4ACC-9581-4E9447AC8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threefold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41Z</dcterms:modified>
  <cp:revision>9</cp:revision>
  <dc:subject/>
  <dc:title>Confession (threefold form)</dc:title>
</cp:coreProperties>
</file>